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2E7-13E7-4FA0-85EB-C1B3C980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85F5-45D6-4A3B-8501-555D1B7D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A6E-6DA4-4F1D-8685-5B5C83F5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C01-E222-408E-8057-B6E62C04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563-6BBD-428E-9145-FC2443E6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49C-AB95-413B-93B8-6742E88F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8DE-3D35-4BFD-97FF-CA89786D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9A0-69FC-4CDC-B20D-5379F0F1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4E4-7EF2-46B7-AB02-9085043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17C-930B-417D-8D8E-9FE76794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8B5-E4B8-4511-A727-D3380C5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609-C597-4BC7-8DAD-6E3F2A78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E45-556F-4FA5-BC73-61434F922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rers Name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55627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00040" y="761760"/>
            <a:ext cx="3048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and Suppor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nation/Route and Hard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nation/Route and Hard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440" y="4114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647960" y="4114440"/>
            <a:ext cx="3809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1:42Z</dcterms:created>
  <dc:creator>Lupin Hill</dc:creator>
  <dc:description/>
  <dc:language>en-US</dc:language>
  <cp:lastModifiedBy>Lupin Hill</cp:lastModifiedBy>
  <dcterms:modified xsi:type="dcterms:W3CDTF">2010-11-10T16:51:54Z</dcterms:modified>
  <cp:revision>1</cp:revision>
  <dc:subject/>
  <dc:title>Explorers Name Here</dc:title>
</cp:coreProperties>
</file>